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67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3639960"/>
            <a:ext cx="67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18080" y="137124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363996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18080" y="363996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218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35840" y="1371240"/>
            <a:ext cx="218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29040" y="1371240"/>
            <a:ext cx="218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3639960"/>
            <a:ext cx="218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35840" y="3639960"/>
            <a:ext cx="218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29040" y="3639960"/>
            <a:ext cx="218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F29C-2CB6-4D89-A0F5-9ABF5D3DC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3712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300C-B57F-4F43-9661-28EC85A8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CB8D-12CE-4C50-98DE-FA07FB4B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3309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18080" y="1371240"/>
            <a:ext cx="3309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8E04-668B-42D1-9881-87D35D4E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C682-7B77-435C-8ADC-5A13BBF0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78B4-462D-424F-8A88-4DC888C4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8080" y="1371240"/>
            <a:ext cx="3309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363996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6AF3-4A51-42F0-8331-29DC134E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13712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3309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8080" y="137124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18080" y="363996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1BAF-287B-4012-A171-8EBFFCBB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18080" y="137124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3639960"/>
            <a:ext cx="67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834C-6ABF-4D2F-B89A-03B86E16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67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3639960"/>
            <a:ext cx="67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6FDF-E812-4BD9-9E51-E9D988D2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18080" y="137124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363996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18080" y="363996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0F66-3D8D-42A8-B09A-200E85FB4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218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35840" y="1371240"/>
            <a:ext cx="218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29040" y="1371240"/>
            <a:ext cx="218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3639960"/>
            <a:ext cx="218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35840" y="3639960"/>
            <a:ext cx="218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729040" y="3639960"/>
            <a:ext cx="218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76DE-51B5-437F-8B9D-6C2C35094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3309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18080" y="1371240"/>
            <a:ext cx="3309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8080" y="1371240"/>
            <a:ext cx="3309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363996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3309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8080" y="137124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18080" y="363996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8080" y="137124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3639960"/>
            <a:ext cx="67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762120" y="990720"/>
          <a:ext cx="7772400" cy="518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990720"/>
                    <a:ext cx="77724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1143000" y="13712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584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7838-0777-47FA-BB2B-E6E123D68935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5" name="Expbanna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EXPHORSA" descr=""/>
            <p:cNvPicPr/>
            <p:nvPr/>
          </p:nvPicPr>
          <p:blipFill>
            <a:blip r:embed="rId3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EXPHORSA" descr=""/>
          <p:cNvPicPr/>
          <p:nvPr/>
        </p:nvPicPr>
        <p:blipFill>
          <a:blip r:embed="rId4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35.xml"/><Relationship Id="rId11" Type="http://schemas.openxmlformats.org/officeDocument/2006/relationships/slide" Target="slide35.xml"/><Relationship Id="rId12" Type="http://schemas.openxmlformats.org/officeDocument/2006/relationships/slide" Target="slide35.xml"/><Relationship Id="rId13" Type="http://schemas.openxmlformats.org/officeDocument/2006/relationships/slide" Target="slide51.xml"/><Relationship Id="rId14" Type="http://schemas.openxmlformats.org/officeDocument/2006/relationships/slide" Target="slide51.xml"/><Relationship Id="rId15" Type="http://schemas.openxmlformats.org/officeDocument/2006/relationships/slide" Target="slide51.xml"/><Relationship Id="rId16" Type="http://schemas.openxmlformats.org/officeDocument/2006/relationships/slide" Target="slide51.xml"/><Relationship Id="rId17" Type="http://schemas.openxmlformats.org/officeDocument/2006/relationships/slide" Target="slide51.xml"/><Relationship Id="rId18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23.xml"/><Relationship Id="rId3" Type="http://schemas.openxmlformats.org/officeDocument/2006/relationships/slide" Target="slide25.xml"/><Relationship Id="rId4" Type="http://schemas.openxmlformats.org/officeDocument/2006/relationships/slide" Target="slide25.xml"/><Relationship Id="rId5" Type="http://schemas.openxmlformats.org/officeDocument/2006/relationships/slide" Target="slide32.xml"/><Relationship Id="rId6" Type="http://schemas.openxmlformats.org/officeDocument/2006/relationships/slide" Target="slide32.xml"/><Relationship Id="rId7" Type="http://schemas.openxmlformats.org/officeDocument/2006/relationships/slide" Target="slide32.xml"/><Relationship Id="rId8" Type="http://schemas.openxmlformats.org/officeDocument/2006/relationships/slide" Target="slide32.xml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8.xml"/><Relationship Id="rId3" Type="http://schemas.openxmlformats.org/officeDocument/2006/relationships/slide" Target="slide39.xml"/><Relationship Id="rId4" Type="http://schemas.openxmlformats.org/officeDocument/2006/relationships/slide" Target="slide39.xml"/><Relationship Id="rId5" Type="http://schemas.openxmlformats.org/officeDocument/2006/relationships/slide" Target="slide39.xml"/><Relationship Id="rId6" Type="http://schemas.openxmlformats.org/officeDocument/2006/relationships/slide" Target="slide41.xml"/><Relationship Id="rId7" Type="http://schemas.openxmlformats.org/officeDocument/2006/relationships/slide" Target="slide41.xml"/><Relationship Id="rId8" Type="http://schemas.openxmlformats.org/officeDocument/2006/relationships/slide" Target="slide41.xml"/><Relationship Id="rId9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.xml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2400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482400"/>
                </a:solidFill>
                <a:latin typeface="Arial"/>
                <a:ea typeface="Arial"/>
              </a:rPr>
              <a:t>7</a:t>
            </a:r>
            <a:r>
              <a:rPr b="1" lang="zh-CN" sz="3600" spc="-1" strike="noStrike">
                <a:solidFill>
                  <a:srgbClr val="482400"/>
                </a:solidFill>
                <a:latin typeface="Arial"/>
                <a:ea typeface="黑体"/>
              </a:rPr>
              <a:t>章</a:t>
            </a:r>
            <a:r>
              <a:rPr b="1" lang="zh-CN" sz="3600" spc="-1" strike="noStrike">
                <a:solidFill>
                  <a:srgbClr val="482400"/>
                </a:solidFill>
                <a:latin typeface="Arial"/>
                <a:ea typeface="Arial"/>
              </a:rPr>
              <a:t>  </a:t>
            </a:r>
            <a:r>
              <a:rPr b="1" lang="zh-CN" sz="3600" spc="-1" strike="noStrike">
                <a:solidFill>
                  <a:srgbClr val="482400"/>
                </a:solidFill>
                <a:latin typeface="Arial"/>
                <a:ea typeface="黑体"/>
              </a:rPr>
              <a:t>创建</a:t>
            </a:r>
            <a:r>
              <a:rPr b="1" lang="en-US" sz="3600" spc="-1" strike="noStrike">
                <a:solidFill>
                  <a:srgbClr val="482400"/>
                </a:solidFill>
                <a:latin typeface="Arial"/>
                <a:ea typeface="Arial"/>
              </a:rPr>
              <a:t>Web</a:t>
            </a:r>
            <a:r>
              <a:rPr b="1" lang="zh-CN" sz="3600" spc="-1" strike="noStrike">
                <a:solidFill>
                  <a:srgbClr val="482400"/>
                </a:solidFill>
                <a:latin typeface="Arial"/>
                <a:ea typeface="黑体"/>
              </a:rPr>
              <a:t>服务器程序</a:t>
            </a: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655308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章要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1" action="ppaction://hlinksldjump"/>
              </a:rPr>
              <a:t>7.1  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  <a:hlinkClick r:id="rId2" action="ppaction://hlinksldjump"/>
              </a:rPr>
              <a:t>Internet</a:t>
            </a: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3" action="ppaction://hlinksldjump"/>
              </a:rPr>
              <a:t>概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4" action="ppaction://hlinksldjump"/>
              </a:rPr>
              <a:t>7.2  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  <a:hlinkClick r:id="rId5" action="ppaction://hlinksldjump"/>
              </a:rPr>
              <a:t>Web</a:t>
            </a: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6" action="ppaction://hlinksldjump"/>
              </a:rPr>
              <a:t>服务器程序简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7" action="ppaction://hlinksldjump"/>
              </a:rPr>
              <a:t>7.3  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  <a:hlinkClick r:id="rId8" action="ppaction://hlinksldjump"/>
              </a:rPr>
              <a:t>ISAPI</a:t>
            </a: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9" action="ppaction://hlinksldjump"/>
              </a:rPr>
              <a:t>编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10" action="ppaction://hlinksldjump"/>
              </a:rPr>
              <a:t>7.4  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  <a:hlinkClick r:id="rId11" action="ppaction://hlinksldjump"/>
              </a:rPr>
              <a:t>CGI</a:t>
            </a: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12" action="ppaction://hlinksldjump"/>
              </a:rPr>
              <a:t>编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13" action="ppaction://hlinksldjump"/>
              </a:rPr>
              <a:t>7.5  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  <a:hlinkClick r:id="rId14" action="ppaction://hlinksldjump"/>
              </a:rPr>
              <a:t>ISAPI DLL</a:t>
            </a: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15" action="ppaction://hlinksldjump"/>
              </a:rPr>
              <a:t>和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  <a:hlinkClick r:id="rId16" action="ppaction://hlinksldjump"/>
              </a:rPr>
              <a:t>CGI</a:t>
            </a: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17" action="ppaction://hlinksldjump"/>
              </a:rPr>
              <a:t>之间的相互转化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7.2.2  </a:t>
            </a: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Web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服务器应用程序的逻辑结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80880" y="1371600"/>
            <a:ext cx="8305560" cy="4114800"/>
            <a:chOff x="380880" y="1371600"/>
            <a:chExt cx="8305560" cy="4114800"/>
          </a:xfrm>
        </p:grpSpPr>
        <p:sp>
          <p:nvSpPr>
            <p:cNvPr id="112" name=""/>
            <p:cNvSpPr/>
            <p:nvPr/>
          </p:nvSpPr>
          <p:spPr>
            <a:xfrm>
              <a:off x="380880" y="1371600"/>
              <a:ext cx="93420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56680" y="1371600"/>
              <a:ext cx="143856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18400" y="1371600"/>
              <a:ext cx="456804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eb Module (Dispatche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75480" y="1796760"/>
              <a:ext cx="1186200" cy="74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75480" y="4415040"/>
              <a:ext cx="1186200" cy="74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spon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15080" y="2119320"/>
              <a:ext cx="83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56320" y="1864800"/>
              <a:ext cx="1186560" cy="74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95880" y="1847520"/>
              <a:ext cx="1186560" cy="74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nt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roduc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95880" y="3224520"/>
              <a:ext cx="1186560" cy="74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nt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roduc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95880" y="4432320"/>
              <a:ext cx="1186560" cy="74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nt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roduc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741200" y="4415040"/>
              <a:ext cx="1186560" cy="74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1314720" y="4738320"/>
              <a:ext cx="83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76800" y="2051280"/>
              <a:ext cx="13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91560" y="2340360"/>
              <a:ext cx="93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26120" y="2341080"/>
              <a:ext cx="0" cy="239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26120" y="4721400"/>
              <a:ext cx="41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62040" y="4567680"/>
              <a:ext cx="114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03960" y="2340360"/>
              <a:ext cx="0" cy="224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19080" y="2340360"/>
              <a:ext cx="20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76800" y="4993200"/>
              <a:ext cx="13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57640" y="2068560"/>
              <a:ext cx="103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957640" y="4653000"/>
              <a:ext cx="103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942880" y="4993200"/>
              <a:ext cx="103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942880" y="2374200"/>
              <a:ext cx="103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7336800" y="2595960"/>
              <a:ext cx="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7856280" y="2579040"/>
              <a:ext cx="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600200" y="5943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1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服务器程序的逻辑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0120" y="634500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7.2.3  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调试服务器程序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同类型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服务器程序，需要在支持相应的服务器程序的服务器上进行。调试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AP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SAP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类型的程序，则要求在支持这种服务器程序的服务器上进行。可以在服务器中编写一定的代码，作为用户请求直接调用这些服务器程序生成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调试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G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nCG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类型的服务器程序就比较困难一些，需要在服务器上执行这些程序，并且需要编写代码作为用户请求的信息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634500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7.3  </a:t>
            </a: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ISAPI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编程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6600cc"/>
                </a:solidFill>
                <a:uFillTx/>
                <a:latin typeface="Times New Roman"/>
                <a:hlinkClick r:id="rId1" action="ppaction://hlinksldjump"/>
              </a:rPr>
              <a:t>7.3.1  返回静态页面	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6600cc"/>
                </a:solidFill>
                <a:uFillTx/>
                <a:latin typeface="Times New Roman"/>
                <a:hlinkClick r:id="rId2" action="ppaction://hlinksldjump"/>
              </a:rPr>
              <a:t>7.3.2  返回动态页面	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6600cc"/>
                </a:solidFill>
                <a:uFillTx/>
                <a:latin typeface="Times New Roman"/>
                <a:hlinkClick r:id="rId3" action="ppaction://hlinksldjump"/>
              </a:rPr>
              <a:t>7.3.3  接收用户输入的</a:t>
            </a:r>
            <a:r>
              <a:rPr b="1" lang="en-US" sz="3200" spc="-1" strike="noStrike" u="sng">
                <a:solidFill>
                  <a:srgbClr val="6600cc"/>
                </a:solidFill>
                <a:uFillTx/>
                <a:latin typeface="Times New Roman"/>
                <a:hlinkClick r:id="rId4" action="ppaction://hlinksldjump"/>
              </a:rPr>
              <a:t>ISAPI DL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cc"/>
                </a:solidFill>
                <a:uFillTx/>
                <a:latin typeface="Times New Roman"/>
                <a:hlinkClick r:id="rId5" action="ppaction://hlinksldjump"/>
              </a:rPr>
              <a:t>7.3.4  </a:t>
            </a:r>
            <a:r>
              <a:rPr b="1" lang="zh-CN" sz="3200" spc="-1" strike="noStrike" u="sng">
                <a:solidFill>
                  <a:srgbClr val="6600cc"/>
                </a:solidFill>
                <a:uFillTx/>
                <a:latin typeface="Times New Roman"/>
                <a:hlinkClick r:id="rId6" action="ppaction://hlinksldjump"/>
              </a:rPr>
              <a:t>一个完整的</a:t>
            </a:r>
            <a:r>
              <a:rPr b="1" lang="en-US" sz="3200" spc="-1" strike="noStrike" u="sng">
                <a:solidFill>
                  <a:srgbClr val="6600cc"/>
                </a:solidFill>
                <a:uFillTx/>
                <a:latin typeface="Times New Roman"/>
                <a:hlinkClick r:id="rId7" action="ppaction://hlinksldjump"/>
              </a:rPr>
              <a:t>Web</a:t>
            </a:r>
            <a:r>
              <a:rPr b="1" lang="zh-CN" sz="3200" spc="-1" strike="noStrike" u="sng">
                <a:solidFill>
                  <a:srgbClr val="6600cc"/>
                </a:solidFill>
                <a:uFillTx/>
                <a:latin typeface="Times New Roman"/>
                <a:hlinkClick r:id="rId8" action="ppaction://hlinksldjump"/>
              </a:rPr>
              <a:t>数据库应用程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6373440"/>
            <a:ext cx="173052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7.3.1  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返回静态页面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2640" y="1066320"/>
            <a:ext cx="6553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其步骤（具体制作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-2~7-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所示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新建项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程序框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创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ctionIte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ctionIte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编写代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设置服务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编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SAP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动态链接库程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调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SAP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动态链接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32892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824360" cy="3678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209680" y="53341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 Server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29580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362320" y="1273320"/>
            <a:ext cx="4495680" cy="34891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828800" y="52578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生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服务器程序的类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69568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5000760" cy="32497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666880" y="533412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4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P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动态链接库的框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12408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5257800" cy="29577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895480" y="5181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5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Edito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2896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52680" y="1371600"/>
            <a:ext cx="2638440" cy="35002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057400" y="51055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6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用对象监视器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Ite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置属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79072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5133960" cy="3597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057400" y="53341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7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存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P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动态链接库的目录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本章要点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6782040" cy="28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nterne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概述的基础上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e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服务器程序进行阐述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结合实例说明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SAP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编程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结合实例说明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G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编程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0" y="6373440"/>
            <a:ext cx="173052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80512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653080" cy="2376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057400" y="49528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8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ipt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目录为可执行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16224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666880" y="1371600"/>
            <a:ext cx="3772080" cy="35434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981080" y="53341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9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置编译后的文件后缀名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16224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838760" cy="3105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584360" y="5202360"/>
            <a:ext cx="580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10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浏览器中显示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P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动态链接库生成的静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页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0120" y="634500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7.3.2  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返回动态页面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769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具体的步骤如下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ject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项目文件中选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 Modul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件，激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onEdito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话框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onEdito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话框新添加一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onIte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第二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onIte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命名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d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thInf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属性设置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Ti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新建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onIte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Actio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件编写代码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16224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371920" cy="3121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905120" y="48769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1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浏览器中显示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P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动态链接库生成的动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页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0120" y="634500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7.3.3  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接收用户输入的</a:t>
            </a: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ISAPI DLL</a:t>
            </a: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nActi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事件的参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属性如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1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创建用户输入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T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页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创建好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页面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添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geProduc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控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具体含义如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2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为项目文件新建一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ctionIte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调试程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13~7-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9144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1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ebReque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对象的主要属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80880" y="1905120"/>
            <a:ext cx="8229240" cy="4114440"/>
            <a:chOff x="380880" y="1905120"/>
            <a:chExt cx="8229240" cy="4114440"/>
          </a:xfrm>
        </p:grpSpPr>
        <p:grpSp>
          <p:nvGrpSpPr>
            <p:cNvPr id="186" name=""/>
            <p:cNvGrpSpPr/>
            <p:nvPr/>
          </p:nvGrpSpPr>
          <p:grpSpPr>
            <a:xfrm>
              <a:off x="388080" y="1911240"/>
              <a:ext cx="8213760" cy="4100760"/>
              <a:chOff x="388080" y="1911240"/>
              <a:chExt cx="8213760" cy="410076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388080" y="1911240"/>
                <a:ext cx="2445840" cy="819720"/>
                <a:chOff x="388080" y="1911240"/>
                <a:chExt cx="2445840" cy="81972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493560" y="1911240"/>
                  <a:ext cx="2234520" cy="81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属性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88080" y="1911240"/>
                  <a:ext cx="2445840" cy="81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2834280" y="1911240"/>
                <a:ext cx="5767560" cy="819720"/>
                <a:chOff x="2834280" y="1911240"/>
                <a:chExt cx="5767560" cy="81972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2939760" y="1911240"/>
                  <a:ext cx="5556240" cy="81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属性的作用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834280" y="1911240"/>
                  <a:ext cx="5767560" cy="81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388080" y="2731320"/>
                <a:ext cx="2445840" cy="819720"/>
                <a:chOff x="388080" y="2731320"/>
                <a:chExt cx="2445840" cy="8197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493560" y="2731320"/>
                  <a:ext cx="2234520" cy="81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Quer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388080" y="2731320"/>
                  <a:ext cx="2445840" cy="81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2834280" y="2731320"/>
                <a:ext cx="5767560" cy="819720"/>
                <a:chOff x="2834280" y="2731320"/>
                <a:chExt cx="5767560" cy="8197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2939760" y="2731320"/>
                  <a:ext cx="5556240" cy="81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由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GET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方法请求获得全部参数组成的字符串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834280" y="2731320"/>
                  <a:ext cx="5767560" cy="81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388080" y="3551400"/>
                <a:ext cx="2445840" cy="820080"/>
                <a:chOff x="388080" y="3551400"/>
                <a:chExt cx="2445840" cy="82008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493560" y="3551400"/>
                  <a:ext cx="2234520" cy="82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QueryField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88080" y="3551400"/>
                  <a:ext cx="2445840" cy="82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2834280" y="3551400"/>
                <a:ext cx="5767560" cy="820080"/>
                <a:chOff x="2834280" y="3551400"/>
                <a:chExt cx="5767560" cy="8200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2939760" y="3551400"/>
                  <a:ext cx="5556240" cy="82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一个经过分解的查询字段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834280" y="3551400"/>
                  <a:ext cx="5767560" cy="82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388080" y="4372200"/>
                <a:ext cx="2445840" cy="819720"/>
                <a:chOff x="388080" y="4372200"/>
                <a:chExt cx="2445840" cy="8197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93560" y="4372200"/>
                  <a:ext cx="2234520" cy="81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Conten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88080" y="4372200"/>
                  <a:ext cx="2445840" cy="81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2834280" y="4372200"/>
                <a:ext cx="5767560" cy="819720"/>
                <a:chOff x="2834280" y="4372200"/>
                <a:chExt cx="5767560" cy="8197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2939760" y="4372200"/>
                  <a:ext cx="5556240" cy="81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由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OST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方法请求获得全部参数组成的字符串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834280" y="4372200"/>
                  <a:ext cx="5767560" cy="81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388080" y="5192280"/>
                <a:ext cx="2445840" cy="819720"/>
                <a:chOff x="388080" y="5192280"/>
                <a:chExt cx="2445840" cy="8197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493560" y="5192280"/>
                  <a:ext cx="2234520" cy="81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ContentField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88080" y="5192280"/>
                  <a:ext cx="2445840" cy="81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2834280" y="5192280"/>
                <a:ext cx="5767560" cy="819720"/>
                <a:chOff x="2834280" y="5192280"/>
                <a:chExt cx="5767560" cy="8197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2939760" y="5192280"/>
                  <a:ext cx="5556240" cy="81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一个经过分解的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Content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字段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834280" y="5192280"/>
                  <a:ext cx="5767560" cy="81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7" name=""/>
            <p:cNvSpPr/>
            <p:nvPr/>
          </p:nvSpPr>
          <p:spPr>
            <a:xfrm>
              <a:off x="380880" y="1905120"/>
              <a:ext cx="8229240" cy="41144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83860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4933800" cy="33624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2362320" y="5181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1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创建好的用户输入界面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676520" y="10666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2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Typ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方法的参数值及其含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04920" y="2209680"/>
            <a:ext cx="8533800" cy="3657240"/>
            <a:chOff x="304920" y="2209680"/>
            <a:chExt cx="8533800" cy="3657240"/>
          </a:xfrm>
        </p:grpSpPr>
        <p:grpSp>
          <p:nvGrpSpPr>
            <p:cNvPr id="223" name=""/>
            <p:cNvGrpSpPr/>
            <p:nvPr/>
          </p:nvGrpSpPr>
          <p:grpSpPr>
            <a:xfrm>
              <a:off x="312480" y="2214360"/>
              <a:ext cx="8516880" cy="3646800"/>
              <a:chOff x="312480" y="2214360"/>
              <a:chExt cx="8516880" cy="3646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312480" y="2214360"/>
                <a:ext cx="2297160" cy="607320"/>
                <a:chOff x="312480" y="2214360"/>
                <a:chExt cx="2297160" cy="60732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424080" y="2214360"/>
                  <a:ext cx="2073600" cy="60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参数值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12480" y="2214360"/>
                  <a:ext cx="2297160" cy="60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2610000" y="2214360"/>
                <a:ext cx="6219360" cy="607320"/>
                <a:chOff x="2610000" y="2214360"/>
                <a:chExt cx="6219360" cy="60732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2721240" y="2214360"/>
                  <a:ext cx="5996880" cy="60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具体含义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2610000" y="2214360"/>
                  <a:ext cx="6219360" cy="60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312480" y="2822040"/>
                <a:ext cx="2297160" cy="607320"/>
                <a:chOff x="312480" y="2822040"/>
                <a:chExt cx="2297160" cy="60732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424080" y="2822040"/>
                  <a:ext cx="2073600" cy="60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tGe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12480" y="2822040"/>
                  <a:ext cx="2297160" cy="60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2610000" y="2822040"/>
                <a:ext cx="6219360" cy="607320"/>
                <a:chOff x="2610000" y="2822040"/>
                <a:chExt cx="6219360" cy="60732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2721240" y="2822040"/>
                  <a:ext cx="5996880" cy="60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采用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GET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方法接收用户请求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610000" y="2822040"/>
                  <a:ext cx="6219360" cy="60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312480" y="3429720"/>
                <a:ext cx="2297160" cy="607680"/>
                <a:chOff x="312480" y="3429720"/>
                <a:chExt cx="2297160" cy="60768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424080" y="3429720"/>
                  <a:ext cx="2073600" cy="60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tPos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12480" y="3429720"/>
                  <a:ext cx="2297160" cy="60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2610000" y="3429720"/>
                <a:ext cx="6219360" cy="607680"/>
                <a:chOff x="2610000" y="3429720"/>
                <a:chExt cx="6219360" cy="60768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2721240" y="3429720"/>
                  <a:ext cx="5996880" cy="60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采用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OST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方法接收用户请求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610000" y="3429720"/>
                  <a:ext cx="6219360" cy="60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12480" y="4038120"/>
                <a:ext cx="2297160" cy="607320"/>
                <a:chOff x="312480" y="4038120"/>
                <a:chExt cx="2297160" cy="6073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424080" y="4038120"/>
                  <a:ext cx="2073600" cy="60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tPu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12480" y="4038120"/>
                  <a:ext cx="2297160" cy="60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2610000" y="4038120"/>
                <a:ext cx="6219360" cy="607320"/>
                <a:chOff x="2610000" y="4038120"/>
                <a:chExt cx="6219360" cy="60732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2721240" y="4038120"/>
                  <a:ext cx="5996880" cy="60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用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Content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的值代替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URL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属性确定的资源的用户请求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610000" y="4038120"/>
                  <a:ext cx="6219360" cy="60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312480" y="4645800"/>
                <a:ext cx="2297160" cy="607320"/>
                <a:chOff x="312480" y="4645800"/>
                <a:chExt cx="2297160" cy="60732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424080" y="4645800"/>
                  <a:ext cx="2073600" cy="60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tHea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312480" y="4645800"/>
                  <a:ext cx="2297160" cy="60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610000" y="4645800"/>
                <a:ext cx="6219360" cy="607320"/>
                <a:chOff x="2610000" y="4645800"/>
                <a:chExt cx="6219360" cy="60732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721240" y="4645800"/>
                  <a:ext cx="5996880" cy="60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要求获得有关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TTP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服务器响应信息种类的请求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610000" y="4645800"/>
                  <a:ext cx="6219360" cy="60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312480" y="5253840"/>
                <a:ext cx="2297160" cy="607320"/>
                <a:chOff x="312480" y="5253840"/>
                <a:chExt cx="2297160" cy="60732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424080" y="5253840"/>
                  <a:ext cx="2073600" cy="60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tAn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12480" y="5253840"/>
                  <a:ext cx="2297160" cy="60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2610000" y="5253840"/>
                <a:ext cx="6219360" cy="607320"/>
                <a:chOff x="2610000" y="5253840"/>
                <a:chExt cx="6219360" cy="60732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2721240" y="5253840"/>
                  <a:ext cx="5996880" cy="60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任何其他形式的用户请求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610000" y="5253840"/>
                  <a:ext cx="6219360" cy="60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0" name=""/>
            <p:cNvSpPr/>
            <p:nvPr/>
          </p:nvSpPr>
          <p:spPr>
            <a:xfrm>
              <a:off x="304920" y="2209680"/>
              <a:ext cx="8533800" cy="36572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89080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881600" cy="32083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981080" y="52578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1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用户输入界面中输入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7.1  </a:t>
            </a: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Internet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概述</a:t>
            </a: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362320" y="1599840"/>
            <a:ext cx="438768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1" action="ppaction://hlinksldjump"/>
              </a:rPr>
              <a:t>7.1.1  术语与标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2" action="ppaction://hlinksldjump"/>
              </a:rPr>
              <a:t>7.1.2  统一资源定位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3" action="ppaction://hlinksldjump"/>
              </a:rPr>
              <a:t>7.1.3  超文本标记语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4" action="ppaction://hlinksldjump"/>
              </a:rPr>
              <a:t>7.1.4  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  <a:hlinkClick r:id="rId5" action="ppaction://hlinksldjump"/>
              </a:rPr>
              <a:t>HTTP</a:t>
            </a: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6" action="ppaction://hlinksldjump"/>
              </a:rPr>
              <a:t>服务器活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7" action="ppaction://hlinksldjump"/>
          </p:cNvPr>
          <p:cNvSpPr/>
          <p:nvPr/>
        </p:nvSpPr>
        <p:spPr>
          <a:xfrm>
            <a:off x="6858000" y="6373440"/>
            <a:ext cx="173052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80512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5195880" cy="33609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752480" y="52578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14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方式得到的服务器响应信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88144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952880" cy="32223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371600" y="51814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15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式得到的服务器响应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20120" y="634500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7.3.4  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一个完整的</a:t>
            </a: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Web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数据库应用程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将数据表作为服务器程序的响应信息（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-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所示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增加查询功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r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控件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ryTableProduc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控件的属性设置如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82888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4562280" cy="32529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447920" y="53341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16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为服务器响应信息输出的数据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438280" y="6858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3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控件的属性设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80880" y="1447920"/>
            <a:ext cx="8305560" cy="4723560"/>
            <a:chOff x="380880" y="1447920"/>
            <a:chExt cx="8305560" cy="4723560"/>
          </a:xfrm>
        </p:grpSpPr>
        <p:grpSp>
          <p:nvGrpSpPr>
            <p:cNvPr id="278" name=""/>
            <p:cNvGrpSpPr/>
            <p:nvPr/>
          </p:nvGrpSpPr>
          <p:grpSpPr>
            <a:xfrm>
              <a:off x="389160" y="1458360"/>
              <a:ext cx="8287560" cy="4700520"/>
              <a:chOff x="389160" y="1458360"/>
              <a:chExt cx="8287560" cy="4700520"/>
            </a:xfrm>
          </p:grpSpPr>
          <p:grpSp>
            <p:nvGrpSpPr>
              <p:cNvPr id="279" name=""/>
              <p:cNvGrpSpPr/>
              <p:nvPr/>
            </p:nvGrpSpPr>
            <p:grpSpPr>
              <a:xfrm>
                <a:off x="389160" y="1458360"/>
                <a:ext cx="3040920" cy="1357920"/>
                <a:chOff x="389160" y="1458360"/>
                <a:chExt cx="3040920" cy="13579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11920" y="1458360"/>
                  <a:ext cx="2795400" cy="135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控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件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389160" y="1458360"/>
                  <a:ext cx="3040920" cy="135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3430440" y="1458360"/>
                <a:ext cx="5246280" cy="1357920"/>
                <a:chOff x="3430440" y="1458360"/>
                <a:chExt cx="5246280" cy="13579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3553200" y="1458360"/>
                  <a:ext cx="5000040" cy="135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属性设置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430440" y="1458360"/>
                  <a:ext cx="5246280" cy="135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89160" y="2817000"/>
                <a:ext cx="3040920" cy="1357920"/>
                <a:chOff x="389160" y="2817000"/>
                <a:chExt cx="3040920" cy="13579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511920" y="2817000"/>
                  <a:ext cx="2795400" cy="135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Query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89160" y="2817000"/>
                  <a:ext cx="3040920" cy="135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3430440" y="2817000"/>
                <a:ext cx="5246280" cy="1357920"/>
                <a:chOff x="3430440" y="2817000"/>
                <a:chExt cx="5246280" cy="13579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3553200" y="2817000"/>
                  <a:ext cx="5000040" cy="135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DatabaseName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：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DBDEMO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3430440" y="2817000"/>
                  <a:ext cx="5246280" cy="135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89160" y="4175640"/>
                <a:ext cx="3040920" cy="1983240"/>
                <a:chOff x="389160" y="4175640"/>
                <a:chExt cx="3040920" cy="198324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511920" y="4175640"/>
                  <a:ext cx="2795400" cy="198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QueryTableProducer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89160" y="4175640"/>
                  <a:ext cx="3040920" cy="198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3430440" y="4175640"/>
                <a:ext cx="5246280" cy="1983240"/>
                <a:chOff x="3430440" y="4175640"/>
                <a:chExt cx="5246280" cy="198324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3553200" y="4175640"/>
                  <a:ext cx="5000040" cy="198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Query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：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Query1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owAttributes.Align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：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haCenter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ableAttributes.Border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：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3430440" y="4175640"/>
                  <a:ext cx="5246280" cy="198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7" name=""/>
            <p:cNvSpPr/>
            <p:nvPr/>
          </p:nvSpPr>
          <p:spPr>
            <a:xfrm>
              <a:off x="380880" y="1447920"/>
              <a:ext cx="8305560" cy="47235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7620120" y="634500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7.4  </a:t>
            </a: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CGI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编程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6000" y="1752120"/>
            <a:ext cx="445608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1" action="ppaction://hlinksldjump"/>
              </a:rPr>
              <a:t>7.4.1  一个时间显示程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2" action="ppaction://hlinksldjump"/>
              </a:rPr>
              <a:t>7.4.2  命令行处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3" action="ppaction://hlinksldjump"/>
              </a:rPr>
              <a:t>7.4.3  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  <a:hlinkClick r:id="rId4" action="ppaction://hlinksldjump"/>
              </a:rPr>
              <a:t>CGI</a:t>
            </a: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5" action="ppaction://hlinksldjump"/>
              </a:rPr>
              <a:t>环境变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6" action="ppaction://hlinksldjump"/>
              </a:rPr>
              <a:t>7.4.4  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  <a:hlinkClick r:id="rId7" action="ppaction://hlinksldjump"/>
              </a:rPr>
              <a:t>CGI</a:t>
            </a: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8" action="ppaction://hlinksldjump"/>
              </a:rPr>
              <a:t>数据库编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0" y="6373440"/>
            <a:ext cx="173052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7.4.1  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一个时间显示程序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467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击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ject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菜单下的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ove from Project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选项，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i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元从项目文件中移走，然后按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trl+F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键，选择项目文件，使它在代码编辑器中显示出来。在它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留字后加入一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TYPE CONSOLE}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编辑器指令，将它转换成控制台应用程序，最后删除大部分项目源代码，如果直接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lph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环境中运行该程序，则它会打开一个终端窗口，并输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ritel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句的内容，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1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53368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5162760" cy="33415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905120" y="51055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19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ph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环境中执行的结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20120" y="634500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7.4.2  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命令行处理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G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应用程序接收用户输入的方法有两种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使用它的命令行参数识别页面（激活应用程序）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R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常在应用程序名后面包括附加的参数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系统使用一系列环境变量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G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应用程序进一步传递信息。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_CG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，同样通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件来传递，而没有使用环境变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20120" y="634500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7.4.3  </a:t>
            </a: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CGI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环境变量</a:t>
            </a: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33720" y="152388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4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G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环境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533520" y="2133720"/>
            <a:ext cx="8076600" cy="4114440"/>
            <a:chOff x="533520" y="2133720"/>
            <a:chExt cx="8076600" cy="4114440"/>
          </a:xfrm>
        </p:grpSpPr>
        <p:grpSp>
          <p:nvGrpSpPr>
            <p:cNvPr id="314" name=""/>
            <p:cNvGrpSpPr/>
            <p:nvPr/>
          </p:nvGrpSpPr>
          <p:grpSpPr>
            <a:xfrm>
              <a:off x="540360" y="2138760"/>
              <a:ext cx="8061840" cy="4103640"/>
              <a:chOff x="540360" y="2138760"/>
              <a:chExt cx="8061840" cy="4103640"/>
            </a:xfrm>
          </p:grpSpPr>
          <p:grpSp>
            <p:nvGrpSpPr>
              <p:cNvPr id="315" name=""/>
              <p:cNvGrpSpPr/>
              <p:nvPr/>
            </p:nvGrpSpPr>
            <p:grpSpPr>
              <a:xfrm>
                <a:off x="540360" y="2138760"/>
                <a:ext cx="2302920" cy="658080"/>
                <a:chOff x="540360" y="2138760"/>
                <a:chExt cx="2302920" cy="65808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41160" y="2138760"/>
                  <a:ext cx="21013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环境变量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40360" y="2138760"/>
                  <a:ext cx="23029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2843640" y="2138760"/>
                <a:ext cx="5758560" cy="658080"/>
                <a:chOff x="2843640" y="2138760"/>
                <a:chExt cx="5758560" cy="65808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2944440" y="2138760"/>
                  <a:ext cx="555696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含义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843640" y="2138760"/>
                  <a:ext cx="575856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540360" y="2797200"/>
                <a:ext cx="2302920" cy="658080"/>
                <a:chOff x="540360" y="2797200"/>
                <a:chExt cx="2302920" cy="6580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641160" y="2797200"/>
                  <a:ext cx="21013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SERVER_NAM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540360" y="2797200"/>
                  <a:ext cx="23029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2843640" y="2797200"/>
                <a:ext cx="5758560" cy="658080"/>
                <a:chOff x="2843640" y="2797200"/>
                <a:chExt cx="5758560" cy="65808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2944440" y="2797200"/>
                  <a:ext cx="555696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Web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服务器主机名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2843640" y="2797200"/>
                  <a:ext cx="575856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540360" y="3456000"/>
                <a:ext cx="2302920" cy="658440"/>
                <a:chOff x="540360" y="3456000"/>
                <a:chExt cx="2302920" cy="65844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641160" y="3456000"/>
                  <a:ext cx="2101320" cy="65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SERVER_PROTOCO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540360" y="3456000"/>
                  <a:ext cx="2302920" cy="65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2843640" y="3456000"/>
                <a:ext cx="5758560" cy="658440"/>
                <a:chOff x="2843640" y="3456000"/>
                <a:chExt cx="5758560" cy="65844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2944440" y="3456000"/>
                  <a:ext cx="5556960" cy="65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TTP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请求的协议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843640" y="3456000"/>
                  <a:ext cx="5758560" cy="65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540360" y="4115160"/>
                <a:ext cx="2302920" cy="658080"/>
                <a:chOff x="540360" y="4115160"/>
                <a:chExt cx="2302920" cy="65808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41160" y="4115160"/>
                  <a:ext cx="21013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SERVER_SOFTWAR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40360" y="4115160"/>
                  <a:ext cx="23029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2843640" y="4115160"/>
                <a:ext cx="5758560" cy="658080"/>
                <a:chOff x="2843640" y="4115160"/>
                <a:chExt cx="5758560" cy="65808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2944440" y="4115160"/>
                  <a:ext cx="555696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Web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服务器软件的名称和版本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843640" y="4115160"/>
                  <a:ext cx="575856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540360" y="4773600"/>
                <a:ext cx="2302920" cy="809640"/>
                <a:chOff x="540360" y="4773600"/>
                <a:chExt cx="2302920" cy="80964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641160" y="4773600"/>
                  <a:ext cx="2101320" cy="80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GATEWAY_INTERFAC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40360" y="4773600"/>
                  <a:ext cx="2302920" cy="80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2843640" y="4773600"/>
                <a:ext cx="5758560" cy="809640"/>
                <a:chOff x="2843640" y="4773600"/>
                <a:chExt cx="5758560" cy="80964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2944440" y="4773600"/>
                  <a:ext cx="5556960" cy="80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CGI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支持的版本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843640" y="4773600"/>
                  <a:ext cx="5758560" cy="80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540360" y="5583960"/>
                <a:ext cx="2302920" cy="658440"/>
                <a:chOff x="540360" y="5583960"/>
                <a:chExt cx="2302920" cy="65844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641160" y="5583960"/>
                  <a:ext cx="2101320" cy="65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EQUEST_METHO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540360" y="5583960"/>
                  <a:ext cx="2302920" cy="65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2843640" y="5583960"/>
                <a:ext cx="5758560" cy="658440"/>
                <a:chOff x="2843640" y="5583960"/>
                <a:chExt cx="5758560" cy="65844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2944440" y="5583960"/>
                  <a:ext cx="5556960" cy="65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请求使用的对象方法，可以是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GET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或者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OS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843640" y="5583960"/>
                  <a:ext cx="5758560" cy="65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1" name=""/>
            <p:cNvSpPr/>
            <p:nvPr/>
          </p:nvSpPr>
          <p:spPr>
            <a:xfrm>
              <a:off x="533520" y="2133720"/>
              <a:ext cx="8076600" cy="41144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7.1.1  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术语与标准</a:t>
            </a: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服务器应用程序相关的几个重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F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标准包括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FC82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PA lnterne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本报文标准，描述了报文头标的结构和内容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FC152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M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部分，描述封装和传递多种格式和多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信息的方法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FCl94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超文本传输协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T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协议），描述了多媒体文档的传输协议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634500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152280" y="990720"/>
            <a:ext cx="8839080" cy="4876200"/>
            <a:chOff x="152280" y="990720"/>
            <a:chExt cx="8839080" cy="4876200"/>
          </a:xfrm>
        </p:grpSpPr>
        <p:grpSp>
          <p:nvGrpSpPr>
            <p:cNvPr id="353" name=""/>
            <p:cNvGrpSpPr/>
            <p:nvPr/>
          </p:nvGrpSpPr>
          <p:grpSpPr>
            <a:xfrm>
              <a:off x="159840" y="996840"/>
              <a:ext cx="8822880" cy="4862880"/>
              <a:chOff x="159840" y="996840"/>
              <a:chExt cx="8822880" cy="4862880"/>
            </a:xfrm>
          </p:grpSpPr>
          <p:grpSp>
            <p:nvGrpSpPr>
              <p:cNvPr id="354" name=""/>
              <p:cNvGrpSpPr/>
              <p:nvPr/>
            </p:nvGrpSpPr>
            <p:grpSpPr>
              <a:xfrm>
                <a:off x="159840" y="996840"/>
                <a:ext cx="2520360" cy="780120"/>
                <a:chOff x="159840" y="996840"/>
                <a:chExt cx="2520360" cy="7801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270360" y="996840"/>
                  <a:ext cx="2299680" cy="78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OCUMENT_ROO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59840" y="996840"/>
                  <a:ext cx="2520360" cy="78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2680560" y="996840"/>
                <a:ext cx="6302160" cy="780120"/>
                <a:chOff x="2680560" y="996840"/>
                <a:chExt cx="6302160" cy="7801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2791080" y="996840"/>
                  <a:ext cx="6081480" cy="78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目录主机文档或者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Web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服务器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680560" y="996840"/>
                  <a:ext cx="6302160" cy="78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159840" y="1777320"/>
                <a:ext cx="2520360" cy="780120"/>
                <a:chOff x="159840" y="1777320"/>
                <a:chExt cx="2520360" cy="7801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270360" y="1777320"/>
                  <a:ext cx="2299680" cy="78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ATH_TRANSLAT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59840" y="1777320"/>
                  <a:ext cx="2520360" cy="78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2680560" y="1777320"/>
                <a:ext cx="6302160" cy="780120"/>
                <a:chOff x="2680560" y="1777320"/>
                <a:chExt cx="6302160" cy="7801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2791080" y="1777320"/>
                  <a:ext cx="6081480" cy="78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与服务器有关的物理路径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680560" y="1777320"/>
                  <a:ext cx="6302160" cy="78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159840" y="2557800"/>
                <a:ext cx="2520360" cy="780480"/>
                <a:chOff x="159840" y="2557800"/>
                <a:chExt cx="2520360" cy="78048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270360" y="2557800"/>
                  <a:ext cx="2299680" cy="78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TTP_PEFER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59840" y="2557800"/>
                  <a:ext cx="2520360" cy="78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2680560" y="2557800"/>
                <a:ext cx="6302160" cy="780480"/>
                <a:chOff x="2680560" y="2557800"/>
                <a:chExt cx="6302160" cy="78048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2791080" y="2557800"/>
                  <a:ext cx="6081480" cy="78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激活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CGI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应用程序的文档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UR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680560" y="2557800"/>
                  <a:ext cx="6302160" cy="78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159840" y="3339000"/>
                <a:ext cx="2520360" cy="780120"/>
                <a:chOff x="159840" y="3339000"/>
                <a:chExt cx="2520360" cy="780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270360" y="3339000"/>
                  <a:ext cx="2299680" cy="78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SCRIPT_NAM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59840" y="3339000"/>
                  <a:ext cx="2520360" cy="78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2680560" y="3339000"/>
                <a:ext cx="6302160" cy="780120"/>
                <a:chOff x="2680560" y="3339000"/>
                <a:chExt cx="6302160" cy="7801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2791080" y="3339000"/>
                  <a:ext cx="6081480" cy="78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被执行的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CGI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应用程序相关的路径（基于服务器地址）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680560" y="3339000"/>
                  <a:ext cx="6302160" cy="78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159840" y="4119480"/>
                <a:ext cx="2520360" cy="780120"/>
                <a:chOff x="159840" y="4119480"/>
                <a:chExt cx="2520360" cy="7801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270360" y="4119480"/>
                  <a:ext cx="2299680" cy="78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ATH_INF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59840" y="4119480"/>
                  <a:ext cx="2520360" cy="78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2680560" y="4119480"/>
                <a:ext cx="6302160" cy="780120"/>
                <a:chOff x="2680560" y="4119480"/>
                <a:chExt cx="6302160" cy="7801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2791080" y="4119480"/>
                  <a:ext cx="6081480" cy="78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向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CGI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应用程序传递的路径，位置在应用程序名和查询字符串之间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680560" y="4119480"/>
                  <a:ext cx="6302160" cy="78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159840" y="4899960"/>
                <a:ext cx="2520360" cy="959760"/>
                <a:chOff x="159840" y="4899960"/>
                <a:chExt cx="2520360" cy="95976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270360" y="4899960"/>
                  <a:ext cx="2299680" cy="95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QUERY_STRIN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59840" y="4899960"/>
                  <a:ext cx="2520360" cy="95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2680560" y="4899960"/>
                <a:ext cx="6302160" cy="959760"/>
                <a:chOff x="2680560" y="4899960"/>
                <a:chExt cx="6302160" cy="95976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2791080" y="4899960"/>
                  <a:ext cx="6081480" cy="95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向程序传递的查询，当请求对象的方法是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GET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时，该字符串用问号追加到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URL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中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680560" y="4899960"/>
                  <a:ext cx="6302160" cy="95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0" name=""/>
            <p:cNvSpPr/>
            <p:nvPr/>
          </p:nvSpPr>
          <p:spPr>
            <a:xfrm>
              <a:off x="152280" y="990720"/>
              <a:ext cx="8839080" cy="48762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7620120" y="634500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7.4.4  </a:t>
            </a: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CGI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数据库编程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依次单击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le”→“New”→“Other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选项，然后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页面中选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B Web Application Wizar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2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单击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K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钮，则出现选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据库应用程序类型对话框，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2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单击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钮，将出现选择数据表对话框，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2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选择好数据表后，单击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钮，将出现选择要显示的字段对话框，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2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838080" y="1220760"/>
            <a:ext cx="74678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选择完需要显示的字段后，单击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钮，则出现设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页面对话框，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2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所有的设置都完成后，则出现确认对话框，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2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单击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ish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钮，就完成了创建一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项目文件的工作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向导为我们生成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bModule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模块，其中加入了三个控件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编译并运行该程序，则在浏览器中显示的结果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3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33360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2666880" y="1371600"/>
            <a:ext cx="4210200" cy="3449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2133720" y="510552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24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 Web Application Wizar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向导创建项目文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26232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814640" cy="30988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2057400" y="53341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25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库应用程序类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24324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452840" cy="28735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2438280" y="51055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26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数据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332892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5029200" cy="32576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2286000" y="53341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27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要显示的字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326700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953240" cy="31813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1905120" y="52578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28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页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3181320" y="25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819680" cy="31035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2819520" y="5257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29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完成创建项目文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332424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5105520" cy="305928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1905120" y="51814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30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向导自动生成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Module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7.1.2  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统一资源定位器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网络资源的位置提供了一种抽象的识别方法，并用这种方法给资源定位。这里的资源是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可以被访问的任何对象，包括文件、文档、图像、声音等等，以及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连的任何形式的数据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一个字符串，它的一般格式如下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协议：</a:t>
            </a:r>
            <a:r>
              <a:rPr b="1" lang="zh-CN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//</a:t>
            </a: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主机名</a:t>
            </a:r>
            <a:r>
              <a:rPr b="1" lang="zh-CN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脚本文件名</a:t>
            </a:r>
            <a:r>
              <a:rPr b="1" lang="zh-CN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路径信息</a:t>
            </a:r>
            <a:r>
              <a:rPr b="1" lang="zh-CN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查询条件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0120" y="634500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293364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3748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2133720" y="52578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3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显示结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0120" y="634500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7.5  </a:t>
            </a: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ISAPI DLL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CGI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之间的相互转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将编写好并且调试成功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ject5.dl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创建成一个模板，以便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n_CG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使用（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3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）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关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ject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项目，在主菜单中选择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项，创建一个新的项目，指定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n_CG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新建项目后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lph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自动产生一个缺省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 Modul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控件，在加入模板后再将它删除（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3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）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0" y="6373440"/>
            <a:ext cx="173052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3095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4448160" cy="34858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1752480" y="533412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3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加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5dl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11004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19760" cy="38512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2895480" y="51814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3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模板设置属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620120" y="634500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1523880" y="2514600"/>
            <a:ext cx="6121440" cy="26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本章到此结束，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谢谢您的光临！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>
            <a:hlinkClick r:id="" action="ppaction://hlinkshowjump?jump=endshow"/>
          </p:cNvPr>
          <p:cNvSpPr/>
          <p:nvPr/>
        </p:nvSpPr>
        <p:spPr>
          <a:xfrm>
            <a:off x="5486400" y="637344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结束放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>
            <a:hlinkClick r:id="rId1" action="ppaction://hlinksldjump"/>
          </p:cNvPr>
          <p:cNvSpPr/>
          <p:nvPr/>
        </p:nvSpPr>
        <p:spPr>
          <a:xfrm>
            <a:off x="6858000" y="6373440"/>
            <a:ext cx="173052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THANK YOU VERY MUCH 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！</a:t>
            </a: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7.1.3  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超文本标记语言</a:t>
            </a: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档通过标记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属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超文本的语义进行描述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虽然本质上并不是编程语言，但它却是在开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档时必须遵守的一套严格而且简明易懂的语法规则。也就是说，如果一个文档是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标准的，则可以解释某些标记的含义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0120" y="634500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7.1.4  </a:t>
            </a: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HTTP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服务器活动</a:t>
            </a: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浏览器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服务器之间通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T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协议进行通信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T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求分为两种类型，一种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求，另一种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求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服务器接收到客户请求之后，将根据配置信息执行一定数量的活动。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服务器应用程序完成客户请求之后。必须构造一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页面或其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M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容，并传输给客户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0120" y="634500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7.2  </a:t>
            </a: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Web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服务器程序简介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2133360"/>
            <a:ext cx="7238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6600cc"/>
                </a:solidFill>
                <a:uFillTx/>
                <a:latin typeface="Times New Roman"/>
                <a:hlinkClick r:id="rId1" action="ppaction://hlinksldjump"/>
              </a:rPr>
              <a:t>7.2.1  </a:t>
            </a:r>
            <a:r>
              <a:rPr b="1" lang="en-US" sz="3200" spc="-1" strike="noStrike" u="sng">
                <a:solidFill>
                  <a:srgbClr val="6600cc"/>
                </a:solidFill>
                <a:uFillTx/>
                <a:latin typeface="Times New Roman"/>
                <a:hlinkClick r:id="rId2" action="ppaction://hlinksldjump"/>
              </a:rPr>
              <a:t>Web</a:t>
            </a:r>
            <a:r>
              <a:rPr b="1" lang="zh-CN" sz="3200" spc="-1" strike="noStrike" u="sng">
                <a:solidFill>
                  <a:srgbClr val="6600cc"/>
                </a:solidFill>
                <a:uFillTx/>
                <a:latin typeface="Times New Roman"/>
                <a:hlinkClick r:id="rId3" action="ppaction://hlinksldjump"/>
              </a:rPr>
              <a:t>服务器程序的种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6600cc"/>
                </a:solidFill>
                <a:uFillTx/>
                <a:latin typeface="Times New Roman"/>
                <a:hlinkClick r:id="rId4" action="ppaction://hlinksldjump"/>
              </a:rPr>
              <a:t>7.2.2  </a:t>
            </a:r>
            <a:r>
              <a:rPr b="1" lang="en-US" sz="3200" spc="-1" strike="noStrike" u="sng">
                <a:solidFill>
                  <a:srgbClr val="6600cc"/>
                </a:solidFill>
                <a:uFillTx/>
                <a:latin typeface="Times New Roman"/>
                <a:hlinkClick r:id="rId5" action="ppaction://hlinksldjump"/>
              </a:rPr>
              <a:t>Web</a:t>
            </a:r>
            <a:r>
              <a:rPr b="1" lang="zh-CN" sz="3200" spc="-1" strike="noStrike" u="sng">
                <a:solidFill>
                  <a:srgbClr val="6600cc"/>
                </a:solidFill>
                <a:uFillTx/>
                <a:latin typeface="Times New Roman"/>
                <a:hlinkClick r:id="rId6" action="ppaction://hlinksldjump"/>
              </a:rPr>
              <a:t>服务器应用程序的逻辑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6600cc"/>
                </a:solidFill>
                <a:uFillTx/>
                <a:latin typeface="Times New Roman"/>
                <a:hlinkClick r:id="rId7" action="ppaction://hlinksldjump"/>
              </a:rPr>
              <a:t>7.2.3  调试服务器程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8" action="ppaction://hlinksldjump"/>
          </p:cNvPr>
          <p:cNvSpPr/>
          <p:nvPr/>
        </p:nvSpPr>
        <p:spPr>
          <a:xfrm>
            <a:off x="6858000" y="6373440"/>
            <a:ext cx="173052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7.2.1  </a:t>
            </a: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Web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服务器程序的种类</a:t>
            </a: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0106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lphi 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可以创建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服务器程序包括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G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程序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-CG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程序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AP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crosoft Server DL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SAP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tscape Server DL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0120" y="634500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5T02:16:13Z</dcterms:created>
  <dc:creator>liwu</dc:creator>
  <dc:description/>
  <dc:language>en-US</dc:language>
  <cp:lastModifiedBy>lcb</cp:lastModifiedBy>
  <dcterms:modified xsi:type="dcterms:W3CDTF">2002-03-30T08:47:09Z</dcterms:modified>
  <cp:revision>32</cp:revision>
  <dc:subject/>
  <dc:title>第7章  创建Web服务器程序</dc:title>
</cp:coreProperties>
</file>